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295-A901-49E9-B241-E47EC8C9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AC3-BA8A-434E-9527-E64A37728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D90B-2068-4385-B879-99763BC62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B7A-A239-4126-8D4C-233309BA21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E18-499C-42EF-A820-19B797B657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D46-9565-4676-9D49-119FC69733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6F2-4831-49B5-8201-B0E59213B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22BE-5EB0-4435-8C19-6248B19C6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7ECB-ACFD-4E6F-8B68-B5D35FEB61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570-C259-42EB-A7D0-E2C5C78F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9F3-3DFC-4917-9C9C-9267415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EF-6C78-4303-9EC0-8C0D7329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A40-897E-4D3D-9031-01065BF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43E-C0C3-4E1E-B235-8030C68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02A-2393-4482-9CCA-2AD9057D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600-A5CF-4F4A-BC1F-5C7DDAB5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95C-94A3-4CB6-98B2-5D235AD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E9B-C9FB-435B-8A21-C256751E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409-BB1C-4C80-AB77-9F88A80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542-97C1-4B2A-93FB-AFAC750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EF0-FA5B-407A-AC92-F4332A7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0910-C966-4A98-BB1E-E707141AA8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Efectos de la Educación  Centrada en el Alumn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. Moises F. Salin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entral Connecticut State Univers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a Auténtic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19320" y="2209680"/>
            <a:ext cx="7086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imado Super Nanny: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 hijo de 3 años de edad, Rob, suele ser un buen chico. Sin embargo, últimamente, cada vez que quiere algo y decimos que no, ha estado haciendo rabietas tremendas. Parece estar especialmente consciente del hecho de que hay otras personas presentes y se pone peor si tenemos invitados en casa o nos encontramos en un lugar público, como un restaurante o un supermercado. Hemos tratado de castigarlo, dándole los tiempos de espera, haciendo caso omiso de él. Nada funciona, él sigue llorando y gritando por horas a veces. Estoy en el final de mi cuerda. ¿Qué puedo hacer?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tentamente, Ja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838080" y="1523880"/>
            <a:ext cx="79250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aptado de Brown et al.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halkboard"/>
              </a:rPr>
              <a:t>Problemas Auténtico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halkboard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blemas Académ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Ill Problemas definid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as bien defin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ntexto Dependie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exto Independ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oluciones múltip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ución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No correcto/incorre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rrecto-incorr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iempo límite es flexi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iempo límite 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íg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nsulta fuentes/expert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nfasis en trabajo individ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tudi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16 estudian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to  a 6to  gra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 esta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ticipan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2590920"/>
          <a:ext cx="7772400" cy="1112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or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-Minor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entrado en el alum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strument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1147680" y="2286000"/>
          <a:ext cx="9526680" cy="367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2286000"/>
                    <a:ext cx="952668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1565280" y="121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ectos en Rendimi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828800" y="2182680"/>
            <a:ext cx="556272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ectos en Evalución de prácticas centradas en el alum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685800" y="1954080"/>
          <a:ext cx="76960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54080"/>
                    <a:ext cx="76960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Oval 1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297180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37339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0199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762012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7848720" y="3962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gnific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fecto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nventario de percepción Multitalento Khatena-Mors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752480" y="2057400"/>
          <a:ext cx="563904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6390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Oval 5"/>
          <p:cNvSpPr/>
          <p:nvPr/>
        </p:nvSpPr>
        <p:spPr>
          <a:xfrm>
            <a:off x="525780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fects o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scala de ambiente del aul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1604880" y="1676520"/>
          <a:ext cx="6008760" cy="43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676520"/>
                    <a:ext cx="6008760" cy="430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Oval 5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7913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ffects on Escala universalidad-diversida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iville-Guzma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1600200" y="2514600"/>
          <a:ext cx="6019920" cy="34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601992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5"/>
          <p:cNvSpPr/>
          <p:nvPr/>
        </p:nvSpPr>
        <p:spPr>
          <a:xfrm>
            <a:off x="342900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56272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!8thclassroom"/>
          <p:cNvPicPr/>
          <p:nvPr/>
        </p:nvPicPr>
        <p:blipFill>
          <a:blip r:embed="rId1"/>
          <a:stretch/>
        </p:blipFill>
        <p:spPr>
          <a:xfrm>
            <a:off x="1981080" y="45720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tencial para cerrar la brecha académic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umento en la apreciación de la tolerancia y la diversidad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umento de las habilidades relacionadas con el crecimiento y desarrollo person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y del antiguo engañador de satanás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1647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deluder Satan La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Siendo un proyecto jefe de ese antiguo engañador, Satanás, para alejar a los hombres del conocimiento de las Escrituras, como en tiempos pasados ​​se mantenían alejados de una lengua desconocida, por lo que en estos tiempos después persuadiendo del uso de las lenguas, que así por lo menos el verdadero sentido y significado del Original, podría  ser empañado por los brillos falsos de Santos-aparentes y que El Aprendizaje no puede ser enterrado en las tumbas de nuestros antepasados de la Iglesia y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Commonwealth, el Señor ayuda a nuestros esfuerzos: por lo que se ordenó por este Tribunal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or consiguiente, se ordenó que cada municipio en esta jurisdicción, después de que el Señor les ha aumentado el número los jefes de familia hasta cincuenta, luego de ello inmediatamente a nombrar a uno dentro de su ciudad para enseñar todos los niños, como podrá recurrir a él para leer y escribir, cuyo salario se pagará, bien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or los padres o maestros de esos niños, o por los habitantes en general, a modo de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la oferta, como la mayor parte de los que ordenan los prudentes de la Ciudad nombrará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Siempre que los que mandan a sus hijos no sea oprimido por tener que pagar mucho más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entonces se puede hacer que se enseña en otras ciudades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371600" y="2286000"/>
            <a:ext cx="70102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e4232"/>
                </a:solidFill>
                <a:latin typeface="Arial"/>
              </a:rPr>
              <a:t>La investigación muestra que el 90% de los conocimientos adquiridos en la escuela se pierde: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26"/>
          <p:cNvSpPr/>
          <p:nvPr/>
        </p:nvSpPr>
        <p:spPr>
          <a:xfrm>
            <a:off x="121932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028"/>
          <p:cNvSpPr/>
          <p:nvPr/>
        </p:nvSpPr>
        <p:spPr>
          <a:xfrm>
            <a:off x="762120" y="1676520"/>
            <a:ext cx="7772400" cy="36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23. 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¿Cuál es la ecuación de la recta que tiene una pendiente de 4 y pasa por el punto (3, -10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−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+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− 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+ 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e4232"/>
                </a:solidFill>
                <a:latin typeface="Arial"/>
              </a:rPr>
              <a:t>Prueba Estándar de California - 9 º G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765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1676520"/>
            <a:ext cx="7772400" cy="40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10. 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¿Cuál de los siguientes factores llevó de manera mas inmediata a la convocatoria de los Estados-Generales franceses en mayo de 1789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El conflicto entre la burguesía y el campes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El apoyo de la Iglesia Católica Ro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e4232"/>
                </a:solidFill>
                <a:latin typeface="American Typewriter"/>
              </a:rPr>
              <a:t>Agitación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 d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el campesin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Bancarrota del gobierno franc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232"/>
                </a:solidFill>
                <a:latin typeface="American Typewriter"/>
              </a:rPr>
              <a:t>Prueba de Historia Mundial del College Bo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rker Felt"/>
              </a:rPr>
              <a:t>Principios del Aprendizaje Centrado en el estudiante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Marker Felt"/>
              </a:rPr>
              <a:t>(McCombs &amp; Whisler, 1997, p. 10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33520" y="2743200"/>
            <a:ext cx="8305560" cy="314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ección con respecto a sus propios proyectos y tareas calificadas, podrá seleccionar las áreas que son personalmente relev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tmo Individual - Flexibilidad de 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ostrar sus conocimientos de una forma única - El dominio, la retroalimentación, la toma de ries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rometido y participar en actividades de aprendizaje individuales y de grupo;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yor responsabilidad para el proceso de aprendizaje, por ejemplo, la asistenci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fine su comprensión mediante el uso de habilidades de pensamiento crític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¿Cómo demostrar el conocimiento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Picture 2" descr="http://homepage.mac.com/dmhart/WarArt/Picasso/Guernica/Guernica.JPG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a Académic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66680" y="24382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da vez que Jamie lleva a su hijo de 3 años de edad, Rob al supermercado, se pone a llorar y no para hasta que tiene una barra de chocolate. De acuerdo con la teoría de Skinner del condicionamiento operante, el llanto es probable que aumente, porque el caramelo sirve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Un reforzador positiv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El estímulo incondicionad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Una respuesta condicionad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Un estímulo condicio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1:01:04Z</dcterms:created>
  <dc:creator>CCSU</dc:creator>
  <dc:description/>
  <dc:language>en-US</dc:language>
  <cp:lastModifiedBy>Melissa Henriquez</cp:lastModifiedBy>
  <cp:lastPrinted>2006-10-18T13:54:10Z</cp:lastPrinted>
  <dcterms:modified xsi:type="dcterms:W3CDTF">2012-04-07T14:48:15Z</dcterms:modified>
  <cp:revision>26</cp:revision>
  <dc:subject/>
  <dc:title>PowerPoint Presentation</dc:title>
</cp:coreProperties>
</file>